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915-07E5-44E0-AC9C-27884285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608-FC27-4180-8F69-BE982E99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029-9218-4215-BFA6-7AFA8BE1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958-91D3-4B53-A3F6-B251E746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F16C-4416-4BEE-872F-9892AFF7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CD19-D79D-4C27-9F94-5D3D31EA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43E7-3E64-4F75-8361-61E847F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7700-4C81-4DAA-81D5-493882B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449C-8E0D-48B0-9258-AB5A0DC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025F-D288-4FEA-90DC-07B539AB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612D-67FC-42F3-86F1-63D35D5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01-3A9A-4003-A3E8-9A826A60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5C5-5CEA-42A9-8AD2-27BC8B37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4DB-261F-4D93-9F83-C9AC5B7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9BF9-6C51-414D-B15B-2E126A5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E75-A214-4AD7-BAFE-1428DFC1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6FB9-57DD-4E15-8043-D506334A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CBE-C2E1-46CA-88F9-82DE468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C3C-40BC-4327-87C2-5A27FC1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001-28F9-49D9-BF85-1A78688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1BB-35E2-4FBC-B593-3F74674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6D3-6877-4BD3-B01A-52881CA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4C8-912E-410C-AFCC-5F091A3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687-46CA-4461-BC55-8F7591E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6370-3158-41E3-A1B3-4B22D4A50B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4423-6069-4692-91F1-C8CB1C3A55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lco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in two rooms tod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make sure you sign in and get a hand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witch rooms – so you will work with all of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4: 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exposure to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ies allow interaction with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og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 and affi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5: Discuss Te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teraction is key to the development of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 questions to stimulate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issues or questions they have with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r to discuss difficult terms and evaluate students’ descri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6: Play Ga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opar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10,000 Pyram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y it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oose a word from your content area.  How would you use steps 1-3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 five of the six steps have in comm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139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students are the ones doing the work – they are the ones processing the information . . 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tfol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what you have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provide bin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zzle of N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e rules – only two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in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ilding Academic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ix Steps to Effective Vocabulary Instru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Robert Marz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rd of the Da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tsets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x Ste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 description, explanation or example of the new te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state the explanation of the new term in their own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reate a Non-Linguistic Representation of the te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x Ste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do activities that help them add to knowledge of vocabulary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discuss terms with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are involved in games that allow them to play with th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1:  Explain or 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description of the term that includes all elements considered important to an accurate understanding of the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DEFI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s are not useful instructional tools, especially in initial stages of learning a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ep 2:  Students Restate Explanation in Own Wor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must process information actively and repeatedly to store words in long-ter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 good to copy the teacher’s definition or one from the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ate in their own words what has been presented about the new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3:  Nonlingusitic Representation of Ter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done immediately after students have generated their own linguistic 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“picture” in their head to associate with the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rocessing of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06:15Z</dcterms:created>
  <dc:creator>HISD</dc:creator>
  <dc:description/>
  <dc:language>en-US</dc:language>
  <cp:lastModifiedBy>HISD</cp:lastModifiedBy>
  <dcterms:modified xsi:type="dcterms:W3CDTF">2009-02-05T19:37:11Z</dcterms:modified>
  <cp:revision>4</cp:revision>
  <dc:subject/>
  <dc:title>Building Academic Vocabulary</dc:title>
</cp:coreProperties>
</file>